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7700-276F-443D-B1C8-874AB0D94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BA7E-6D65-4841-B245-77C6938BF6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671-C887-46ED-BA8F-82B5AC1ABC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E35-10B4-4DE0-8A81-A3CDD527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8A6-ED6E-42A3-8D2C-64D7217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94E-A0F8-49D3-81C9-1E2C2644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7BA-92FF-48C1-9C5F-6363D76D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2C1B-5E90-4787-80BA-79BD7572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1AFD-19D1-4A47-9212-3515DB9E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090-0320-4709-82C1-70F389E0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E8E4-2582-4E77-B180-04C04905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CC4D-B65D-47D9-B915-9A2EFC4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6586-3C67-4D4B-84C8-73D2F2E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9542-92E2-49EE-87F6-6D5906C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3C0-1A89-4BEF-9DF1-24FCD220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F49-03FB-406A-89CB-6C588128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57E7-8250-4058-AAA7-8E45AF2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51D9-42DB-438C-BF5F-3E3EAC08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7C62-954E-4FFF-8BD4-EAA7DE47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53BE-7907-4A0C-952A-B476D0EC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067-2FBC-4CF1-920F-D70C807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EA2-5E19-46A7-ACC5-574BFAA5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A96-E0D2-484C-9511-3765D1C7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5A8-DE26-4BBB-906A-651DE52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81E-EF4D-4C65-8367-4D95B61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D0A-AF7C-412E-813D-1222856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8F3-999F-4EFE-B4D6-D536AC1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B00-37DC-4F77-BC49-0440690266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AA1-D382-4D08-8B45-5AD982460F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ebek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3300"/>
                </a:solidFill>
                <a:latin typeface="Tahoma"/>
              </a:rPr>
              <a:t>СЕМЬЯ - ЭТО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И трудовой коллекти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И моральная опор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И высшие человеческие привязанности (любовь, дружб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И пространство для отдых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И школа доброт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И многообразная система отношений с родителями, братьями, сестрами, родными и знако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bebek8"/>
          <p:cNvPicPr/>
          <p:nvPr/>
        </p:nvPicPr>
        <p:blipFill>
          <a:blip r:embed="rId1"/>
          <a:stretch/>
        </p:blipFill>
        <p:spPr>
          <a:xfrm>
            <a:off x="0" y="3240"/>
            <a:ext cx="9144000" cy="72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Мораль и вкусы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манеры и привычк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мировоззрение и убеждения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характер и идеал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- основы всего этого закладываются в семь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ebek7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ebek11"/>
          <p:cNvPicPr/>
          <p:nvPr/>
        </p:nvPicPr>
        <p:blipFill>
          <a:blip r:embed="rId1"/>
          <a:stretch/>
        </p:blipFill>
        <p:spPr>
          <a:xfrm>
            <a:off x="0" y="3240"/>
            <a:ext cx="9144000" cy="71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Tahoma"/>
              </a:rPr>
              <a:t>Важнейшие функции </a:t>
            </a:r>
            <a:br>
              <a:rPr sz="5400"/>
            </a:br>
            <a:r>
              <a:rPr b="0" i="1" lang="ru-RU" sz="5400" spc="-1" strike="noStrike">
                <a:solidFill>
                  <a:srgbClr val="ff3300"/>
                </a:solidFill>
                <a:latin typeface="Tahoma"/>
              </a:rPr>
              <a:t>семь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691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Воспитатель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Хозяйственно-бытов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Экономическ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Социально-статус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сихотерапевтическ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Репродуктив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Сексуально-эротическ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Духовное обще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Дос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ebek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gcal_93_4"/>
          <p:cNvPicPr/>
          <p:nvPr/>
        </p:nvPicPr>
        <p:blipFill>
          <a:blip r:embed="rId1"/>
          <a:stretch/>
        </p:blipFill>
        <p:spPr>
          <a:xfrm>
            <a:off x="4572000" y="260280"/>
            <a:ext cx="4321080" cy="6121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410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ahoma"/>
              </a:rPr>
              <a:t>Именно в семье ребенок получает азы знаний об окружающем мире, а  в дальнейшем и саму культур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24000" y="836280"/>
            <a:ext cx="504036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Tahoma"/>
              </a:rPr>
              <a:t>Семья это определенный морально-психологический климат, это школа отношений с людь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Picture 4" descr="special"/>
          <p:cNvPicPr/>
          <p:nvPr/>
        </p:nvPicPr>
        <p:blipFill>
          <a:blip r:embed="rId1"/>
          <a:stretch/>
        </p:blipFill>
        <p:spPr>
          <a:xfrm>
            <a:off x="0" y="0"/>
            <a:ext cx="4140360" cy="717408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215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6000" spc="-1" strike="noStrike">
                <a:solidFill>
                  <a:srgbClr val="ffcc66"/>
                </a:solidFill>
                <a:latin typeface="Tahoma"/>
              </a:rPr>
              <a:t>« Плохо человеку, когда он один,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i="1" lang="ru-RU" sz="6000" spc="-1" strike="noStrike">
                <a:solidFill>
                  <a:srgbClr val="ffcc66"/>
                </a:solidFill>
                <a:latin typeface="Tahoma"/>
              </a:rPr>
              <a:t>горе одному, один не воин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66"/>
                </a:solidFill>
                <a:latin typeface="Tahoma"/>
              </a:rPr>
              <a:t>                                      </a:t>
            </a:r>
            <a:r>
              <a:rPr b="1" i="1" lang="ru-RU" sz="6000" spc="-1" strike="noStrike">
                <a:solidFill>
                  <a:srgbClr val="ffcc66"/>
                </a:solidFill>
                <a:latin typeface="Tahoma"/>
              </a:rPr>
              <a:t>В.В.Маяковск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4751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Tahoma"/>
              </a:rPr>
              <a:t>Именно в семье складываются представления ребенка о добре и зле, о порядочности, об уважительном отношении к материальным и духовным ценностя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memories"/>
          <p:cNvPicPr/>
          <p:nvPr/>
        </p:nvPicPr>
        <p:blipFill>
          <a:blip r:embed="rId1"/>
          <a:stretch/>
        </p:blipFill>
        <p:spPr>
          <a:xfrm>
            <a:off x="4859280" y="333360"/>
            <a:ext cx="4010040" cy="68407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5280" y="244440"/>
            <a:ext cx="4846680" cy="613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Tahoma"/>
              </a:rPr>
              <a:t>С близкими людьми в семье он переживает чувства любви, дружбы, долга, ответственности, справедливо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4" descr="momshands"/>
          <p:cNvPicPr/>
          <p:nvPr/>
        </p:nvPicPr>
        <p:blipFill>
          <a:blip r:embed="rId1"/>
          <a:stretch/>
        </p:blipFill>
        <p:spPr>
          <a:xfrm>
            <a:off x="0" y="260280"/>
            <a:ext cx="4140360" cy="691380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ebek9"/>
          <p:cNvPicPr/>
          <p:nvPr/>
        </p:nvPicPr>
        <p:blipFill>
          <a:blip r:embed="rId1"/>
          <a:stretch/>
        </p:blipFill>
        <p:spPr>
          <a:xfrm>
            <a:off x="0" y="0"/>
            <a:ext cx="5940360" cy="7174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11280" y="0"/>
            <a:ext cx="40323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Tahoma"/>
              </a:rPr>
              <a:t>В семье ребенок включаетс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cc66"/>
                </a:solidFill>
                <a:latin typeface="Tahoma"/>
              </a:rPr>
              <a:t>во все жизненно важные виды деятельности-</a:t>
            </a:r>
            <a:br>
              <a:rPr sz="2800"/>
            </a:b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интеллектуальную,</a:t>
            </a:r>
            <a:br>
              <a:rPr sz="2800"/>
            </a:b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познавательную, трудовую,</a:t>
            </a:r>
            <a:br>
              <a:rPr sz="2800"/>
            </a:b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общественную,</a:t>
            </a:r>
            <a:br>
              <a:rPr sz="2800"/>
            </a:b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игровую, творческую</a:t>
            </a:r>
            <a:br>
              <a:rPr sz="2800"/>
            </a:br>
            <a:r>
              <a:rPr b="0" i="1" lang="ru-RU" sz="2800" spc="-1" strike="noStrike">
                <a:solidFill>
                  <a:srgbClr val="ff3300"/>
                </a:solidFill>
                <a:latin typeface="Tahoma"/>
              </a:rPr>
              <a:t>и друг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ebek1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410544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Tahoma"/>
              </a:rPr>
              <a:t>Особенностью семейного воспитания является то, что оно органично сливается со всей жизне-</a:t>
            </a:r>
            <a:br>
              <a:rPr sz="3600"/>
            </a:br>
            <a:r>
              <a:rPr b="0" i="1" lang="ru-RU" sz="3600" spc="-1" strike="noStrike">
                <a:solidFill>
                  <a:srgbClr val="ffcc66"/>
                </a:solidFill>
                <a:latin typeface="Tahoma"/>
              </a:rPr>
              <a:t>деятельностью челове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537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И в наших силах помочь своему ребенку вырасти добрым, умным, активным, сильным, смелым, храбрым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ответственным, творчески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039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395280" y="1700280"/>
            <a:ext cx="431640" cy="504720"/>
          </a:xfrm>
          <a:custGeom>
            <a:avLst/>
            <a:gdLst/>
            <a:ahLst/>
            <a:rect l="l" t="t" r="r" b="b"/>
            <a:pathLst>
              <a:path w="431800" h="504825">
                <a:moveTo>
                  <a:pt x="0" y="192826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6"/>
                </a:lnTo>
                <a:lnTo>
                  <a:pt x="298365" y="311998"/>
                </a:lnTo>
                <a:lnTo>
                  <a:pt x="349333" y="504824"/>
                </a:lnTo>
                <a:lnTo>
                  <a:pt x="215900" y="385649"/>
                </a:lnTo>
                <a:lnTo>
                  <a:pt x="82467" y="504824"/>
                </a:lnTo>
                <a:lnTo>
                  <a:pt x="133435" y="311998"/>
                </a:lnTo>
                <a:lnTo>
                  <a:pt x="0" y="1928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867280" y="4437000"/>
            <a:ext cx="432000" cy="504720"/>
          </a:xfrm>
          <a:custGeom>
            <a:avLst/>
            <a:gdLst/>
            <a:ahLst/>
            <a:rect l="l" t="t" r="r" b="b"/>
            <a:pathLst>
              <a:path w="431800" h="504825">
                <a:moveTo>
                  <a:pt x="0" y="192826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6"/>
                </a:lnTo>
                <a:lnTo>
                  <a:pt x="298365" y="311998"/>
                </a:lnTo>
                <a:lnTo>
                  <a:pt x="349333" y="504824"/>
                </a:lnTo>
                <a:lnTo>
                  <a:pt x="215900" y="385649"/>
                </a:lnTo>
                <a:lnTo>
                  <a:pt x="82467" y="504824"/>
                </a:lnTo>
                <a:lnTo>
                  <a:pt x="133435" y="311998"/>
                </a:lnTo>
                <a:lnTo>
                  <a:pt x="0" y="1928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95280" y="4581360"/>
            <a:ext cx="431640" cy="505080"/>
          </a:xfrm>
          <a:custGeom>
            <a:avLst/>
            <a:gdLst/>
            <a:ahLst/>
            <a:rect l="l" t="t" r="r" b="b"/>
            <a:pathLst>
              <a:path w="431800" h="504825">
                <a:moveTo>
                  <a:pt x="0" y="192826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6"/>
                </a:lnTo>
                <a:lnTo>
                  <a:pt x="298365" y="311998"/>
                </a:lnTo>
                <a:lnTo>
                  <a:pt x="349333" y="504824"/>
                </a:lnTo>
                <a:lnTo>
                  <a:pt x="215900" y="385649"/>
                </a:lnTo>
                <a:lnTo>
                  <a:pt x="82467" y="504824"/>
                </a:lnTo>
                <a:lnTo>
                  <a:pt x="133435" y="311998"/>
                </a:lnTo>
                <a:lnTo>
                  <a:pt x="0" y="1928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8317080" y="5877000"/>
            <a:ext cx="431640" cy="504720"/>
          </a:xfrm>
          <a:custGeom>
            <a:avLst/>
            <a:gdLst/>
            <a:ahLst/>
            <a:rect l="l" t="t" r="r" b="b"/>
            <a:pathLst>
              <a:path w="431800" h="504825">
                <a:moveTo>
                  <a:pt x="0" y="192826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6"/>
                </a:lnTo>
                <a:lnTo>
                  <a:pt x="298365" y="311998"/>
                </a:lnTo>
                <a:lnTo>
                  <a:pt x="349333" y="504824"/>
                </a:lnTo>
                <a:lnTo>
                  <a:pt x="215900" y="385649"/>
                </a:lnTo>
                <a:lnTo>
                  <a:pt x="82467" y="504824"/>
                </a:lnTo>
                <a:lnTo>
                  <a:pt x="133435" y="311998"/>
                </a:lnTo>
                <a:lnTo>
                  <a:pt x="0" y="1928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948360" y="404640"/>
            <a:ext cx="432000" cy="505080"/>
          </a:xfrm>
          <a:custGeom>
            <a:avLst/>
            <a:gdLst/>
            <a:ahLst/>
            <a:rect l="l" t="t" r="r" b="b"/>
            <a:pathLst>
              <a:path w="431800" h="504825">
                <a:moveTo>
                  <a:pt x="0" y="192826"/>
                </a:moveTo>
                <a:lnTo>
                  <a:pt x="164934" y="192827"/>
                </a:lnTo>
                <a:lnTo>
                  <a:pt x="215900" y="0"/>
                </a:lnTo>
                <a:lnTo>
                  <a:pt x="266866" y="192827"/>
                </a:lnTo>
                <a:lnTo>
                  <a:pt x="431800" y="192826"/>
                </a:lnTo>
                <a:lnTo>
                  <a:pt x="298365" y="311998"/>
                </a:lnTo>
                <a:lnTo>
                  <a:pt x="349333" y="504824"/>
                </a:lnTo>
                <a:lnTo>
                  <a:pt x="215900" y="385649"/>
                </a:lnTo>
                <a:lnTo>
                  <a:pt x="82467" y="504824"/>
                </a:lnTo>
                <a:lnTo>
                  <a:pt x="133435" y="311998"/>
                </a:lnTo>
                <a:lnTo>
                  <a:pt x="0" y="1928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9600" spc="-1" strike="noStrike">
                <a:solidFill>
                  <a:srgbClr val="ffcc66"/>
                </a:solidFill>
                <a:latin typeface="Tahoma"/>
              </a:rPr>
              <a:t>ОДНИМ СЛОВОМ 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66"/>
                </a:solidFill>
                <a:latin typeface="Tahoma"/>
              </a:rPr>
              <a:t>ЧЕЛОВЕКОМ 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foto 20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916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8512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3300"/>
                </a:solidFill>
                <a:latin typeface="Tahoma"/>
              </a:rPr>
              <a:t>СЕМЬЯ ПОМОГАЛА ЧЕЛОВЕКУ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2491920"/>
            <a:ext cx="4321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Появить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на свет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Выраст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Жи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028"/>
          <p:cNvPicPr/>
          <p:nvPr/>
        </p:nvPicPr>
        <p:blipFill>
          <a:blip r:embed="rId1"/>
          <a:stretch/>
        </p:blipFill>
        <p:spPr>
          <a:xfrm>
            <a:off x="5435640" y="2492280"/>
            <a:ext cx="3457440" cy="396108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80071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На протяжении всей истории человечества вне семьи было невозможно не только нормальное существование, но даже физическое выжив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WEETD~1"/>
          <p:cNvPicPr/>
          <p:nvPr/>
        </p:nvPicPr>
        <p:blipFill>
          <a:blip r:embed="rId1"/>
          <a:stretch/>
        </p:blipFill>
        <p:spPr>
          <a:xfrm>
            <a:off x="0" y="-24300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393336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ahoma"/>
                <a:ea typeface="Times New Roman"/>
              </a:rPr>
              <a:t>Семья - это то от чего ты улыбаешься, даже когда уста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Tahoma"/>
              </a:rPr>
              <a:t>И в сегодняшнем цивилизованном мире, люди все равно стремятся держаться вместе, уживаться друг с другом, несмотря на связанные с этим трудно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2" descr="bebek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007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66"/>
                </a:solidFill>
                <a:latin typeface="Tahoma"/>
              </a:rPr>
              <a:t>Человека без семьи трудно считать вполне счастливым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ahoma"/>
              </a:rPr>
              <a:t>Спецификой семейного воспитания является «многомерность» жизни семьи, широта и многогранность влияний, условий, которые будучи созданы осмысленно и целенаправленно, могут стать основой всестороннего развития лич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8:31:18Z</dcterms:created>
  <dc:creator>AMD</dc:creator>
  <dc:description/>
  <dc:language>en-US</dc:language>
  <cp:lastModifiedBy>Потешкина Т.В</cp:lastModifiedBy>
  <dcterms:modified xsi:type="dcterms:W3CDTF">2023-01-13T14:59:40Z</dcterms:modified>
  <cp:revision>3</cp:revision>
  <dc:subject/>
  <dc:title>Слайд 1</dc:title>
</cp:coreProperties>
</file>